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726-3436-43FA-828B-938C383A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A58-C32D-4559-BE8E-0B546042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1C2-206D-449F-8A34-6E43C73C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264-55F0-4A42-A9A8-0D2753FD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02E-1FA0-47BD-B3A1-3FC2801F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1ED-8ADE-489A-8039-E15A3AFE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B19-2EE1-4FF3-B818-3FBBA44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214-ADDC-4E13-BB34-EFD4C17D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FB5-1FE1-47B4-963F-71CD3537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AE8-1E40-4005-A32B-208B9E88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1E6-4E6F-49D2-8A0B-D514BF5A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9FF-8052-4088-BA06-36D26F32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CE9-CCDC-4384-8732-7AA74F470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8 V Kristovi kto našiel spá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kto našiel spás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ískal Božej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ustálych zvratoch čas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aj smrti hľadieť v tv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kto cieľ svoj na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aj v kríži k nemu sm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a krv mu dáv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pustenie, duše mi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kto poznal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sa smie v ňom rad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aj v tiesni bez rept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u lásku zvest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á radosť po úna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čakáva pútni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zaskvie v Božej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ý obraz človek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10:42Z</dcterms:modified>
  <cp:revision>20</cp:revision>
  <dc:subject/>
  <dc:title>Je veľký náš Pán, on slávy je Kráľ Nech do všetkých strán  spev vrúcnych znie chvál.</dc:title>
</cp:coreProperties>
</file>